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A684-ADEB-491F-A287-8FAD05C3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7A92-B40A-490B-83D0-DCEC65A8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7699-4ABC-409A-B28B-77F59785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4C2F-DD67-408B-9656-73355B94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1E11-C415-47D5-8735-39A3E50D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35BD-96C6-4FE4-AC8D-9717B209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A3A4-6C0E-4764-B2A0-44E3F93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DEF-2B24-4ED1-90DC-4BC515EF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EDD-EFC5-4E75-BBC3-BF785823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EF2A-78EA-46B7-8F43-B7232A3E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0161-A059-4260-8ED3-73D1BC4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27F3-8DFF-47CF-9764-59BE3180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6339-67E2-4DB0-8BCE-F1A2429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1A27-2141-44DC-8378-215DA279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1E98-D262-4753-BB92-7CD2F6A4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BC1B-1195-4D85-B6BE-4E61A340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0463-E690-448A-B33B-78BCC63C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3D5C-1C28-493A-BFC0-B67EFE8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DAF7-D7B9-4AB6-A81D-043CDC4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5E5E-80CE-4265-8333-8A039CBF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9DEF-5C23-4097-9412-3E2E1A7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B9A2-E2AE-431E-8984-1DC4431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FBFC-52BB-4A02-B6F7-EE1D981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B598-6E9C-4E2B-8E90-985E3791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7FA7-8545-4348-B62F-B21B664E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C84-5000-4E7D-A177-CA0C854CF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mma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school, Ann, an old friend, drov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school Ann, an old friend,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fter school, Ann an old friend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fter school, Ann, an old friend, drov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e 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school Ann, an old friend,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fter school, Ann an old friend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t the club the band played rock pop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e club the band played rock, pop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t the club, the band played rock, pop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,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t the club the band played rock pop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e club the band played rock, pop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At the club, the band played rock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op, hip-hop,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 asked Bob if he would baby sit,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 and said, “I’m busy that night.”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asked Bob if he would baby sit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sked Bob, if he would baby sit,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,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 asked Bob if he would baby sit, but he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rowned and said, “I’m busy that night.”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asked Bob if he would baby sit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sked Bob, if he would baby sit,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,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birthday is September 25 1968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birthday is September 25 1968,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birthday is September 25, 1968,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birthday is September 25 1968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birthday is September 25 1968,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My birthday is September 25, 1968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hich 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ccording to Steve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ccording to Steve,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,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ccording to Steve,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ccording to Steve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ccording to Steve, an expert on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North Pole,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ccording to Steve,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comma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as (,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punctuation marks that separate words and word groups to help readers understand a sentence. Commas are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parate three or more items in a seri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am wearing a ha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glov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a scar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Often, people,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Often, people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Often, people who get little sleep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Often, people,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Often, people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) Often, people who get little sleep make mistakes,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ave 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ose who drive recklessly increase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isks of tickets arrests and acciden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ose, who drive recklessly, increase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isks of tickets arrests and acciden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ose who drive recklessly increase,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isks of tickets, arrests, and acciden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ose who drive recklessly increase their ris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ickets arrests and accid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ose, who drive recklessly, increase their ris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ickets arrests and accid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ose who drive recklessly increase, their ris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ickets, arrests, and accid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revision should be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ose who drive recklessly increase their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risks of tickets, arrests, and accident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“I’m sorry,” I said to the man at my fron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, “Elaine doesn’t live here anymo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I’m sorry” I said to the man at my fron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 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“I’m sorry” I said to the man, at my front do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“I’m sorry,” I said to the man at my front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or, “Elaine doesn’t live here anymo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I’m sorry” I said to the man at my front do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“I’m sorry” I said to the man, at my front do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se clothes, which I bought yesterd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already falling apart, T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se clothes, which I bought yesterd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already falling apart T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se clothes which I bought yesterd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already falling apart, T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These clothes, which I bought yesterday,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re already falling apart, To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ese clothes, which I bought yesterday, ar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ready falling apart To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se clothes which I bought yesterday, ar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ready falling apart, To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Officer, have you found the person,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fficer have you found the person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fficer, have you found the person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Officer, have you found the person,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fficer have you found the person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Officer, have you found the pers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ho 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parate a compound sentence: two sentences joined b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d, but, for, nor, or, so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y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am tired every morn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b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ffee wakes me u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introductory wor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fortunatel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on’t be able to go to your par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I am correc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 won’t arrive until 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es we have pizzas, subs, and calzon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we don’t make deliveri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es, we have pizzas, subs, and calzon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we don’t make deliveri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Yes, we have pizzas, subs, and calzon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, we don’t make deliveri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Yes we have pizzas, subs, and calzones but w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make deliver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Yes, we have pizzas, subs, and calzones,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ut we don’t make deliver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Yes, we have pizzas, subs, and calzones, but, w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make deliver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deadline, by the way, is December 15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deadline by the way is December, 15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 deadline, by the way, is December 15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deadline, by the way, i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cember 15, 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deadline by the way is December, 15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 deadline, by the way, is December 15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This is my first visit to Dallas, Texas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id Rita who was born in Boise, Idaho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This is my first visit to Dallas Texas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id Rita who was born in Boise Idaho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“This is my first visit to Dallas, Texas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id Rita, who was born in Bois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daho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“This is my first visit to Dallas, Texas,” sai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ta who was born in Boise, Idah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This is my first visit to Dallas Texas” said Rit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was born in Boise Idah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“This is my first visit to Dallas, Texas,”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aid Rita, who was born in Boise, Idah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love cookies ice cream and cake,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love cookies, ice cream, and cake,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love cookies, ice cream, and cake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love cookies ice cream and cake,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love cookies, ice cream, and cake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t 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love cookies, ice cream, and cake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appositives and interrupter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osi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phrase that renames a nou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ta Lopez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 president of our compan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ill speak at the meeting. [The underlined words rename Marta Lopez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rup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word or word group that interrupts a sentence but does not affect the meaning of the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y the wa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n’t my husband. [The underlined words interrupt the sentence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adjective clauses that can be taken out of a sentence without completely changing the meaning. (Adjective clauses begin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, whic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th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iu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o used to live in that house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d to New Jers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use commas to set off adjective clauses essential to the meaning of a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ldr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o see their par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more likely to want to read themsel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et off quoted words from the rest of a senten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know what the thief looked lik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 the victim sai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olice officer replie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“Please tell me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eparate the parts of an addres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live at 254 Cherry Circl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yle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 152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et off the name of someone addressed directly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you please come her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y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these words are a response to a ques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like apple pi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 don’t like mel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ete,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Pete,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ete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Pete, when you go to the store, pleas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y 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Pete,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ete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21:43:14Z</dcterms:modified>
  <cp:revision>199</cp:revision>
  <dc:subject/>
  <dc:title>Sentence Fragments</dc:title>
</cp:coreProperties>
</file>